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AB8DF-3BBB-4568-80B3-0820549C5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C53B6-ACF6-4E08-9101-867C09155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2A03E-1DEA-4A74-8681-EC45A7072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36D33-05AA-4B0C-B969-A66BB9BB2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681C9-9926-4965-A6B9-FCF3CC6D2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2D1B6-B58F-4802-8548-4377D9B6B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7A61F-6A65-4536-9E58-963FA91C3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F0316-553A-45B4-AC7B-A3892B1A8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18A27-953C-4999-B193-C0066BAB9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E7C82-1F16-45D9-BB4F-315E90A9A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8A1E0-78CC-4EF0-B49A-BED593456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F6C9A-B202-4C14-80CB-4331A37F1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5CB97-4F93-4B69-BE63-91A576A94B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303280" y="5876640"/>
            <a:ext cx="6840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4800" spc="-1" strike="noStrike">
                <a:solidFill>
                  <a:srgbClr val="ffffff"/>
                </a:solidFill>
                <a:latin typeface="Arial"/>
              </a:rPr>
              <a:t>Presentation Tit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1-09-06T18:50:01Z</dcterms:modified>
  <cp:revision>706</cp:revision>
  <dc:subject/>
  <dc:title>Diapositiva 1</dc:title>
</cp:coreProperties>
</file>