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59A5-DFB6-4999-A1F3-89E32712E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6FC7-7C88-488D-B8DB-BE483F2E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1F4C-5240-4E58-A74E-7C8B66549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8E0E-297F-46D5-AE59-9D6E33C77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0D28-773C-40E0-BB5A-C0B9D76F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4E67-44FB-4E64-8FE0-31013256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7591-03B5-4BEF-8DA4-19AC60C7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0787-F84B-4C24-859B-27DD6631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F040-8280-4180-97DD-D579E107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508C-0603-4D0C-B7DD-FEF5634D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84CE-86D9-4765-8090-77443857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7096-E9A9-4279-A388-47D0C19D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FB85-7D33-489A-BCB1-4705852BF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ariajose</cp:lastModifiedBy>
  <dcterms:modified xsi:type="dcterms:W3CDTF">2009-07-15T16:34:42Z</dcterms:modified>
  <cp:revision>98</cp:revision>
  <dc:subject/>
  <dc:title>TITLE</dc:title>
</cp:coreProperties>
</file>