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0B14-5518-4DF5-8512-F01B94082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B6C1-5087-421D-96D5-DC7DBB759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D163-45FA-4201-84BB-2CE19BFF0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E1A5-3E61-4DEE-8190-2BCC19B72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7F77-918F-4DC4-A7A7-6CF49B250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78E9-CE31-4E0B-925E-A7622D6CE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66BC-DC3A-4D25-9FD9-0FEE68204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9347-BC49-47DC-8A5E-F3FEC65FB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84A8-4DD5-4A5C-8F5E-973614087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2E52-51DB-41E9-980B-40356E83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B025-12F8-449D-AEAB-D1522756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CA79-EA01-45AB-BA89-C3163FCD4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7EFA6-2964-42CA-ABAB-51581BBC6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348000" y="4653000"/>
            <a:ext cx="518472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348000" y="5157720"/>
            <a:ext cx="51847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ffffff"/>
                </a:solidFill>
                <a:latin typeface="Arial"/>
              </a:rPr>
              <a:t>Your company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4-04T15:47:59Z</dcterms:modified>
  <cp:revision>635</cp:revision>
  <dc:subject/>
  <dc:title>Diapositiva 1</dc:title>
</cp:coreProperties>
</file>