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B68E-A1CC-49F5-A86C-78157A57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FBC5-96E5-4D3D-BE35-C90E6C5BE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784-2F1A-4219-B079-B79BE6AD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5EB3-7C33-4C21-9B80-FA3E8DA8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A9A-ED5D-439F-B594-DAD2268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64ED-6D4D-4E66-9817-B0150329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F804-2825-4D0C-8B1C-5B3405C9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7ED-F126-4A04-9573-1B8AFF0C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1D3E-174B-40B0-8600-26D995A3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E954-BD60-40B6-AE45-4D5AD598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C7D3-D919-4665-9C53-249D81D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7CC-1755-4273-8DF7-69ACAC18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64CCF-7E78-420A-AFCC-9EBC9D777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0-06-01T02:31:30Z</dcterms:modified>
  <cp:revision>25</cp:revision>
  <dc:subject/>
  <dc:title>Diapositiva 1</dc:title>
</cp:coreProperties>
</file>