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D12-8F08-4661-B940-FE9800A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333-1BF6-4D61-B685-E0917CA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DE7-0C3B-4951-BC13-40F470EC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AED-C598-40E3-A0A1-4469577E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5E5-970B-47FB-9375-E9CC74F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236-66A4-4AFA-B853-6678AE59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8F7-19EC-4961-A1BB-A5F77200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D40-4CE5-4CAB-A39A-8084ECC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F62-84A5-4EFB-A45A-79E1BE8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306-F3CE-4161-B9AD-23A88D5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D6D-339A-4108-A168-91457A4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4AB-6662-4423-BBF0-84A244F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3AE-DE9A-4572-87CD-21CF9383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1T02:31:30Z</dcterms:modified>
  <cp:revision>25</cp:revision>
  <dc:subject/>
  <dc:title>Diapositiva 1</dc:title>
</cp:coreProperties>
</file>