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793F-F590-4760-8D17-F1A5FB402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8C86-DE98-42F1-9D70-8D4857709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CA15-0D7E-4ED6-9A7F-68317B5C1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1211-B239-4C38-AD06-8F4DC4FD1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4FF3-C43A-4F74-875C-58880155F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72B3-065B-4BDB-8E19-50ABF31B0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7E8D-4ADA-45DD-A381-0F1650C04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8703-51BF-4BFC-8F3F-B0D3B999B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A46F-EE5D-4609-85BE-ED0EE11A5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C6E2-09E0-41DF-BA12-A7C4EBBD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1A11-561E-42A4-A011-E644FCF52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42CD-53DE-4C6F-939E-0FFE77B6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7CC81-175D-41A2-9BD8-F7A3D58F6C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56000" y="2565000"/>
            <a:ext cx="640368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Mariajose</cp:lastModifiedBy>
  <dcterms:modified xsi:type="dcterms:W3CDTF">2009-04-19T23:43:33Z</dcterms:modified>
  <cp:revision>38</cp:revision>
  <dc:subject/>
  <dc:title>TITLE</dc:title>
</cp:coreProperties>
</file>