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D85-537A-4070-A5F4-AF41484D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E16C-3FF6-472A-A830-6ABC5AB8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DC4-DDF3-4133-812E-C0A89155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6E7C-4FD5-4ADE-920B-ACE9CF63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CC6-90B1-4F6E-ADF0-09E59E6B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BF4-ACEF-4DFD-BA1D-CEA30279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15E-CF62-44C4-8F2B-808B4383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1C8-8CD9-4A5A-AF7B-8AB204D4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B87-6E86-409E-8F1A-723890C3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B0D5-9DB1-4362-B0C7-E8C4DEBC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AC9D-5D36-4C42-A35C-5764F10C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D5FF-78F1-47AD-949C-6362E444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8877-398E-417E-9582-A4BE5FD8F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6000" y="2565000"/>
            <a:ext cx="640368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4-19T23:43:33Z</dcterms:modified>
  <cp:revision>38</cp:revision>
  <dc:subject/>
  <dc:title>TITLE</dc:title>
</cp:coreProperties>
</file>