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77D8-FBB1-4FE2-B6E6-888AF9E94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7A5E-8288-4D29-94B2-EBE77946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0F43-6FCE-4CEF-8407-7309A289F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72C4-99C3-439D-96ED-FE444A19D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8B25-C7CD-4B68-B994-50201D29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FDA8-B749-4D10-8BF3-F96276B1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3E90-D7F4-469C-8E6C-11E7B4F0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97C6-639B-447B-B9C1-C72915B5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7DEF-35F4-47A4-9ADE-425732C0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9FD3-39DF-4054-8FDF-0F0943FE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8F87-916F-4662-80DA-7B7130CF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0159-B499-48D9-A7FE-0F1927EE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9E30-BDA2-464E-ABA9-A114CF3B9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08T01:12:44Z</dcterms:modified>
  <cp:revision>177</cp:revision>
  <dc:subject/>
  <dc:title>Diapositiva 1</dc:title>
</cp:coreProperties>
</file>