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678-0B80-45EE-9EC9-33B03F69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02D-846B-4C5A-964E-BFAA9DED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BB1-E369-4CE3-B8C4-F851AC1C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8D1-9849-4C01-8296-52591BBD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A6F-1C06-4069-9B41-9881CFCB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203-AB7F-4816-B8BF-6145214D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1A6-68C9-4315-B408-6435761F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859-9B9D-4CF4-8CCC-B21B1BE0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C5F-9CEA-4D1C-B57E-B1CF1B31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9DB-42DC-4F34-B1A9-365924EB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02C-2D0C-4295-AF78-43FC6001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77A-5601-4F64-91E6-998736D4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9243-E08A-4F3A-8BA8-27BCA59E0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2:44Z</dcterms:modified>
  <cp:revision>177</cp:revision>
  <dc:subject/>
  <dc:title>Diapositiva 1</dc:title>
</cp:coreProperties>
</file>