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36D-224B-4CB2-A810-A223E208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2BB-0BB6-4DF9-8508-AAF8349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E89-72AE-4CDC-AF43-6DE0EE59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050-A060-46B0-812D-518C7E7E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315-2708-4037-87E0-1F76E34F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1D0-2AF3-48D1-9A1E-CB3344D7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E43-3B2F-49BD-A5B9-263B0CFA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55D-6746-4845-AE46-637DFD0E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1E4-D4AB-419C-B959-9D9E8AA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128-AF38-4758-A448-FBA8B79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F8E-8AB5-40A5-A6D7-BE0D288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7A9-D6E8-4E8B-9ACD-E57CBD8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CC6-ABFB-4B22-9935-6A9A85B19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1:50Z</dcterms:modified>
  <cp:revision>137</cp:revision>
  <dc:subject/>
  <dc:title>Diapositiva 1</dc:title>
</cp:coreProperties>
</file>