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6D4-EFE9-486B-B199-045DF27B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5EB-034D-4F59-8101-5478934D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2C6-40E2-4EAE-9496-CF21C6CB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584-DEA7-4ED4-BA62-EC7455D0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A6A-3926-4514-AAD2-53DCE0A3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558-FB88-45EC-9B06-C3A57116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949-54E3-4AFD-A6DF-A1A76B9C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240-EBFC-4513-B6AC-51FFE298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8D2-89C2-46F7-A4D8-3D4B7DF7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34F-DF67-46D3-BA3A-D537CB54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8E9-C24E-4318-9AB9-39EF4FB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240-DCF3-4DFC-8FDD-9F99C7C9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60C1-B634-4825-8A50-5BBCA3BCE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11T14:24:57Z</dcterms:modified>
  <cp:revision>284</cp:revision>
  <dc:subject/>
  <dc:title>Diapositiva 1</dc:title>
</cp:coreProperties>
</file>