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BF6-CBA2-4A03-8B92-0F5F7067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39D-C553-46AD-915A-D34F89A4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3E7-8A0C-4EE7-B981-C8C7DF02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3A2-EDC2-4830-BA01-5CA6CFAB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855-8BFA-4A3E-80DD-B14E2B92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9A7B-04AD-49C9-ABB9-BCFBEF0B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DCF-CE19-48A8-B96E-5ECAACC9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9385-C69A-434A-B4F2-CF32C278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D70-61F2-494F-8BAE-B6854E50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93D-EDB4-432B-BE62-4C4E4951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F47-677D-4CCB-8A3F-738D7C19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BB7-7B08-4E97-8195-3F8063B2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BB70-8340-4944-8B26-4C947439E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640" y="549360"/>
            <a:ext cx="496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1197000"/>
            <a:ext cx="496728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27T14:15:25Z</dcterms:modified>
  <cp:revision>612</cp:revision>
  <dc:subject/>
  <dc:title>Diapositiva 1</dc:title>
</cp:coreProperties>
</file>