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A50-0681-4E51-870E-710235CC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258-0BEE-4DF1-AB36-818F8885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D96-518C-43FE-8609-C2A6C1A9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E82-5EA2-475F-9B92-C68C8381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3A8-E36D-44C0-978B-12C14A8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BDA-6EDB-4B11-9C36-B7AD42B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E0B-3EE6-4AB0-A465-02BE381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705-0B46-4E87-B932-AC05BC01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F90-9B18-4677-A1AA-F8FF329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A30-9D2A-4326-A955-C367256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DF5-4C20-4B3E-A6F0-65D0B3C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201-283C-4FA9-BFE3-4A02616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E689-9BD7-44E8-A035-94B3B772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1197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7T14:15:25Z</dcterms:modified>
  <cp:revision>612</cp:revision>
  <dc:subject/>
  <dc:title>Diapositiva 1</dc:title>
</cp:coreProperties>
</file>