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B52-86D3-44F4-9F09-72179C23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3F0-3FEB-4F3C-963C-1FBC537C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29E-7CAA-41D3-BAAD-61BC7BF1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E6C-9E83-42FD-A26C-0D7BBB9B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8B7-8E00-43A5-A48C-9F9DF1B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8AB-C56A-4BD3-B418-01009614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BA5-1140-4A2E-A7E7-673EAFF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B8D-1A5C-41E6-A17F-40BBF219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8C6-00F9-4C8F-953D-5DB12C6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4D1-7917-4B86-BB2A-A4B733F2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D52-A305-4A70-A3D1-967F057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8F8-734C-4A63-A85C-295B4AA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30A4-8922-4F81-9885-BF1BBB10D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54936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1197000"/>
            <a:ext cx="49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7T14:15:25Z</dcterms:modified>
  <cp:revision>612</cp:revision>
  <dc:subject/>
  <dc:title>Diapositiva 1</dc:title>
</cp:coreProperties>
</file>