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93B-9BF5-4E59-96E7-B1BCC856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35D-909B-4799-AB25-F8EB1A11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B05-58D5-4B6E-87C7-19E0102E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A66-C60C-4BEC-8F2C-D14B96E1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1F4-A69F-4537-8A75-EA6EC4F0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50E-AC54-4CEB-BD52-FCB122D7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A6C-846D-4E9E-B52C-FBFE1230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DA8-F3C8-4A29-87CA-73ED2EE4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21D-3DA9-4D48-99D6-6306D71C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277-B0C5-4BE1-A59C-AD8A3281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297-ADCB-4087-A695-C1CDA8D3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A21-F720-4F56-9D55-8C84B5D4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D0BD-924A-4E2F-8ED6-7990D0E51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640" y="2565000"/>
            <a:ext cx="734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06160" y="3213000"/>
            <a:ext cx="6048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000000"/>
                </a:solidFill>
                <a:latin typeface="Arial"/>
              </a:rPr>
              <a:t>Subheading goes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9T21:10:21Z</dcterms:modified>
  <cp:revision>545</cp:revision>
  <dc:subject/>
  <dc:title>Diapositiva 1</dc:title>
</cp:coreProperties>
</file>