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F94-E9D1-4289-BA8E-2D96B1E9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870-FD39-4161-B2B5-707946A1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D67-2402-4FA0-8374-23A1E280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FE0-CE46-4D00-A453-7EC32474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306-DAB1-4AF7-9328-FD2BF02F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E73-23C8-4961-855E-010ABE7C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863-957B-42F6-9135-02C18D1A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D04-E830-404D-946F-46819DC1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82E-B9D5-4D41-9778-167BA604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24F-B149-47DF-B6EA-39ADF2CA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C24-0BB2-412D-8690-9BB592BD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A61-C46A-4395-B622-403C5A2F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FE2E-463A-427C-8D7C-3F8471C24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640" y="2565000"/>
            <a:ext cx="734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06160" y="3213000"/>
            <a:ext cx="6048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000000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9T21:10:21Z</dcterms:modified>
  <cp:revision>545</cp:revision>
  <dc:subject/>
  <dc:title>Diapositiva 1</dc:title>
</cp:coreProperties>
</file>