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5093-0087-4800-BDC7-904226BC72B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7DCC-AA06-412B-911B-58FB7026DE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867-A999-4BDB-A92D-8E9ECC39C56F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828-213A-4966-A3D8-7F2D5451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B00-CCBB-4891-BC18-383D6E53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B91-0021-4261-85C8-4FCC9E4A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081-9C75-4FE9-AC97-F64955B5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0043-F0A1-4124-A85F-C2BADCF1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8E6-C41C-4665-917B-609E5843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4B7-13CA-44B8-86C4-75F917A0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27F-0DA9-43B4-9495-3F8BE591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C04-8E18-451C-9923-C0AAFB6E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F1B-0653-4F54-9AD5-2AB1245D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47B-8DE3-462C-9C8B-3C9BAAAF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C6D-86A5-4534-9A05-8D6B4980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A2A8-1F5C-4CB7-8F9D-C6F0A5BD4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8-14T03:56:55Z</dcterms:modified>
  <cp:revision>65</cp:revision>
  <dc:subject/>
  <dc:title>TITLE</dc:title>
</cp:coreProperties>
</file>