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289-6580-48A2-8E76-3DEF6CC1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3DF-1E06-48E9-9B4F-04D5F895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287-7892-4225-9954-0478BC6A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BB-DF4E-4D79-9765-8653F503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036-342E-45B3-859E-D36161D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F25-074B-4A28-B6BE-51C5928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73A-3E33-4F4D-9C41-E48703D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237-76B8-4D3D-A670-269A190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AF8-E46F-43DF-9D4B-AB765A4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484-7C82-4D2A-B917-7FC24BD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9F3-53F5-4062-B351-3E164E0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24C-FE5C-4FEA-A6FF-8F420EA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1CF-2B14-4E3D-8443-4B43B786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487044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2T01:57:16Z</dcterms:modified>
  <cp:revision>695</cp:revision>
  <dc:subject/>
  <dc:title>Diapositiva 1</dc:title>
</cp:coreProperties>
</file>