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965C-2842-47EB-8EC7-52A3BE48E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A524-64A5-4E52-845C-0EF2E277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AC57-0E0A-4FB3-9F92-BBD0156D5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669D-F25D-4466-ABE9-6F2BBD9C4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5470-D278-4A07-AE4E-1C4F09DC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9DF6-2C28-40C8-AADB-F0623616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5E17-6C4E-43D1-BE18-24E81E70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3BD7-DF95-4BA7-A3BD-A53E10D7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9FEA-EF3B-408B-8376-21623E1E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E276-78BC-415A-8F83-923C4CA9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544A-89D7-42E0-9359-25D53568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0FA1-9FD0-4568-92C2-FEDF6F5C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4394-CFD8-4AE3-AD8F-3D1ED977C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5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8487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8487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20:21:09Z</dcterms:created>
  <dc:creator>Mariajose</dc:creator>
  <dc:description/>
  <dc:language>en-US</dc:language>
  <cp:lastModifiedBy>Mariajose</cp:lastModifiedBy>
  <dcterms:modified xsi:type="dcterms:W3CDTF">2009-10-01T16:07:58Z</dcterms:modified>
  <cp:revision>9</cp:revision>
  <dc:subject/>
  <dc:title>Title</dc:title>
</cp:coreProperties>
</file>