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896-A167-4E91-AED4-16C2AD61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D16-88A0-4398-82AC-88385BB2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8BD-F41C-4830-9F15-C76EE115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23B-8760-45BE-9FBA-36C16743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4F0-C8B0-4C56-A9A5-FB733FC9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96F-FA3A-4FC2-9536-845DA8A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057-81D2-4466-9AF8-4567C287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ACA-9A1D-4ACA-B7C9-372AFB93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BF6-E440-4D31-B12A-122E757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766-70D7-47C6-97FA-3B8EE2D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9DB-3E5F-4DF8-8A64-3044C9E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801-A1E9-4DDC-9082-3EE0615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6CB-2E8B-4F49-9570-DED5538EF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157720"/>
            <a:ext cx="77724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396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6000" y="1557000"/>
            <a:ext cx="403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23T03:20:38Z</dcterms:modified>
  <cp:revision>51</cp:revision>
  <dc:subject/>
  <dc:title>Diapositiva 1</dc:title>
</cp:coreProperties>
</file>