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110-9C3B-40EA-A10C-0B941EBF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4FE-0992-4758-A48B-FD1A2492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BC4-B05D-4BFB-8494-B39CEE19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ED9-4C12-4CF1-8287-EE683762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230-108F-4AAF-A6E7-F4A7C263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E6A-E334-4F9B-A792-2208521F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89B-2E8D-498E-8BC2-5EB20BBD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AA4-87AB-47CA-B4A2-74458D05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467-B2B2-487B-B067-14E2142B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9E5-28D5-4B66-9DFE-6B961379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E1C-0E72-4313-85EF-7025CB85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39E-C315-478A-BDE8-F2931B92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17AB-6B84-42A1-A0FB-F15C55B3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229360"/>
            <a:ext cx="42829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805360"/>
            <a:ext cx="5040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28T22:04:11Z</dcterms:modified>
  <cp:revision>728</cp:revision>
  <dc:subject/>
  <dc:title>Diapositiva 1</dc:title>
</cp:coreProperties>
</file>