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CAA-250A-49A3-AF99-AE7BF7C8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771-CF51-4C87-BE70-AFFF976E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F3B-7C69-4264-98DE-71C4E536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0F2-9E81-4CC9-BDA3-EA97D843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105-EE35-4C67-88BE-AF056FF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E7D-FB7A-4177-8983-8EA370B8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5A1-2ABC-4B41-8480-A0D81E0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608-AE72-4E0C-BEC5-A2E31C12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01D-14D1-4E7F-B53B-7930F771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8F3-4174-4CA3-9776-814B0A0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577-AF63-4A48-962F-50111EEC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982-9E28-4104-A84A-18993474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AF5A-3C75-47EB-9CEA-08441C520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57360"/>
            <a:ext cx="4427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805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0T16:18:49Z</dcterms:modified>
  <cp:revision>707</cp:revision>
  <dc:subject/>
  <dc:title>Diapositiva 1</dc:title>
</cp:coreProperties>
</file>