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5B8-CEA4-4B05-B658-2403EE85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344-6E66-4EF6-887F-47926BA0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319-4453-4EEC-82E8-1A6BD02A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8AD-4F85-4F51-9ADD-AC18229E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B1EC-4429-4846-8444-02122450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1F8-D5F2-4011-A6C6-D0380E9A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F3F-4145-4FE5-9582-7FE74BE7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54D-3780-4D21-9E6B-555BB9F3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0AB-0C4B-4F09-A93A-7A0FBB91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CCBF-9A6D-427E-927B-7B8FD05B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9FBD-F6F7-4491-9B5A-7F6ABD6E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13B-255E-45C2-BA4C-895EAC97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571F-9E82-4892-BC94-98BC6723A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157360"/>
            <a:ext cx="44272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80536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10T16:18:49Z</dcterms:modified>
  <cp:revision>707</cp:revision>
  <dc:subject/>
  <dc:title>Diapositiva 1</dc:title>
</cp:coreProperties>
</file>