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CB15-5F6B-4C4D-8DB1-F59A2F729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4296-3C21-4844-821C-2BBC7935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170F-A5F9-4BCC-8817-95741253E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7F0D-3436-4ABE-83C2-8B5754187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019B-15FF-49DE-B607-1683EE33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0F34-9FD4-4C6D-8068-ADCD49DE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5DC4-A666-470E-936A-8A6D70872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1422-1D16-4A58-8CAF-5A08CD04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954D-FE77-41D2-ADA0-DB3B03B7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FE4F-A7CC-4F2C-891F-AFD11E73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CEAC-6DFD-4A93-810B-20E704E2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AEEF-DEF1-4739-99C7-A491EFA59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8653-5C82-4F33-A90E-487BD5AF1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4149360"/>
            <a:ext cx="5832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333333"/>
                </a:solidFill>
                <a:latin typeface="Arial"/>
              </a:rPr>
              <a:t>Presentation Tit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640" y="4653000"/>
            <a:ext cx="460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333333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0-13T14:19:57Z</dcterms:modified>
  <cp:revision>726</cp:revision>
  <dc:subject/>
  <dc:title>Diapositiva 1</dc:title>
</cp:coreProperties>
</file>