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95DFA-22C0-4D63-8073-B9EE4A5B4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FF091-AE19-4911-A5B4-E9294EE70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88CE4-96C7-4C52-B465-37F7DD03F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1B03D-80C8-4396-8312-B042453BC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B846F-DAF0-41D3-B946-EF5A10352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BBCBD-7E26-4E1C-9B55-15C43C982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E991B-2C87-4B1B-91E4-EEB3DA9FA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BBFAD-5ED9-4307-8D7B-0AFC642D0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3C8A6-64CC-4077-A578-720BAC758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E4628-70DA-4233-88A9-B08EBB13D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7D4E3-A35F-4B55-B29C-143DB63CE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31FDC-2589-47D7-B671-E0A93AA21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293DC-DCB4-49E7-AEC2-2C7F781BB2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54200" y="1412640"/>
            <a:ext cx="6121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5400" spc="-1" strike="noStrike">
                <a:solidFill>
                  <a:srgbClr val="006666"/>
                </a:solidFill>
                <a:latin typeface="Arial"/>
              </a:rPr>
              <a:t>Presentation Titl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1-07-28T12:11:12Z</dcterms:modified>
  <cp:revision>654</cp:revision>
  <dc:subject/>
  <dc:title>Diapositiva 1</dc:title>
</cp:coreProperties>
</file>