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62B0-D21E-416A-8855-D40C9D3A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03F0-F8BF-4BAB-B291-2EB4D8E6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1377-20AB-4452-AB15-E453FBD90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3D45-7EA5-44DF-B856-1657B3F2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7E21-741C-427F-9424-434B8998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838D-53D2-4CF7-ABCA-E44ECDF1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560B-D514-44A5-9971-BA1DF5FD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8604-1732-4402-9430-A21C40AD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E79D-BF4C-46EB-936F-3B816D11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EBBC-C58C-4883-AA2E-B062B16E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1367-45E8-4582-9DE2-114C3994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5379-C52B-4BF5-A19F-ED2BAE74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336A-275F-41B0-9FDB-75EEDB628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16T17:44:06Z</dcterms:modified>
  <cp:revision>197</cp:revision>
  <dc:subject/>
  <dc:title>Diapositiva 1</dc:title>
</cp:coreProperties>
</file>