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AD3-65AB-409E-B918-0234E5E3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D57-5B10-41A2-B13C-A498B524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5A8-981D-47AE-A0B3-518600B8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CA6-7918-4BF2-8EFD-8F51F80A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8EF-0440-42CB-A1F9-D8654777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9EF-8B49-49DD-BA87-01A879BB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210-0693-4B37-ADFB-3F7A170A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A6C-5383-4EF6-9B57-1323E346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5A3-776E-443B-8B06-A5366BA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805-5D35-4C37-9E42-B56BFDA7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975-57BA-459D-BFF0-7C75A5B9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12E-6967-448F-A5FC-545E2A88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2279-5847-4163-9B52-E3697CAD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6T17:44:06Z</dcterms:modified>
  <cp:revision>197</cp:revision>
  <dc:subject/>
  <dc:title>Diapositiva 1</dc:title>
</cp:coreProperties>
</file>