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823-CE32-4D13-AED4-BE014241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52D-8CEA-47B5-8865-231CC859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8E4-C00E-46FE-BCCD-50CAB2D5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1E1-CF81-4415-85D2-5193C55D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35E-0E1A-4392-8F3A-E534DC49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CA2-D1EA-48B3-8EA8-48331B02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E83-9291-4E52-83AD-4D87F317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65D-E87F-4A50-AEEC-0FE875DB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616-102C-46AE-9998-74BD208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B93-E23C-46CF-8A62-782400F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3BC-BC78-4EDB-A9D2-2E1EA96C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D7C-C9E7-4A21-97D5-DEDD5F4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8C2-8E40-4058-BBC6-8B783D2F0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3:30Z</dcterms:modified>
  <cp:revision>338</cp:revision>
  <dc:subject/>
  <dc:title>Diapositiva 1</dc:title>
</cp:coreProperties>
</file>