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75C-F376-421E-AC16-999DAC6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931-45FD-4323-BB4C-4FA2597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90-EA26-4F88-BB46-EA41A94F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29F-BDC8-4977-B79F-418C47A9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2DE-7F53-4D5B-8F1E-73045150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749-1CEE-4106-8ADC-17BC2FE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69E-4B5A-4B57-8957-6236FAD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723-888D-474C-B609-52D8D33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E22-EF39-48BA-B04D-614393D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CB7-DAD4-44E4-97C6-C621156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6C6-B1A1-4B73-96E2-8B0BEC4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C51-74FD-4C13-B370-B0E079B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CD53-E5A8-4CD4-B766-3608A70B3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530028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5f5f5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6T18:51:08Z</dcterms:modified>
  <cp:revision>707</cp:revision>
  <dc:subject/>
  <dc:title>Diapositiva 1</dc:title>
</cp:coreProperties>
</file>