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8E5-FE34-47E8-8B3D-370B4864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DA37-A044-4115-9450-98B2AA3D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61A-A0AA-4CF8-B7C9-DDBABFC1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E5BE-D9B8-4446-AD13-36C227EE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C201-8216-464D-8750-06C90C71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98C-77E2-4618-B839-7E47A95C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40F-31CB-44D9-805F-6226664B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E92A-EC9A-4BAC-94FB-8F32AEB2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6ADD-F0E9-41F0-A2DC-1DF9C997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CD1F-017A-42A7-9276-687CC333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0E21-C3EA-49E8-8E83-B82508FB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FB9-4E80-410E-A67A-8E51FDC4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F5DB-8A6C-4523-9E4D-2EAAB1FF7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869000"/>
            <a:ext cx="5184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373720"/>
            <a:ext cx="51847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30T19:20:25Z</dcterms:modified>
  <cp:revision>630</cp:revision>
  <dc:subject/>
  <dc:title>Diapositiva 1</dc:title>
</cp:coreProperties>
</file>