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F43-5E80-4825-8297-4A9526C3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6ED-8D2C-48D5-A2E6-B30EF91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6E4-5458-4A2E-91AB-A95EA7B0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AB2-4AE8-44D1-ACBC-25BC4151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C24-8419-4A33-9CC5-2A4273D0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0C6-A444-45B4-8FF0-5A524EA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62C-B737-4BD6-80A7-BC03875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21D-1330-4791-832A-D809F2D1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D94-2481-498C-9F87-3CCA474B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87E-F3CD-48D1-8C77-785DC5A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BD2-80F6-465D-8903-EDC53D6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777-5AB3-4B58-8688-6FAE23B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E795-3246-4D8E-9714-C4D5872655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14800"/>
            <a:ext cx="49528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747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334120"/>
            <a:ext cx="28954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4747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747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129492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632448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3e26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>
                <a:solidFill>
                  <a:srgbClr val="523e26"/>
                </a:solidFill>
                <a:latin typeface="Arial"/>
              </a:rPr>
              <a:t> | Redistribution Prohibited | Image © 2008 clix@sxc.hu | This text section may be deleted for presentation</a:t>
            </a:r>
            <a:r>
              <a:rPr b="0" lang="en-US" sz="800" spc="-1" strike="noStrike">
                <a:solidFill>
                  <a:srgbClr val="523e2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632448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3e26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>
                <a:solidFill>
                  <a:srgbClr val="523e26"/>
                </a:solidFill>
                <a:latin typeface="Arial"/>
              </a:rPr>
              <a:t> | Redistribution Prohibited | Image © 2008 clix@sxc.hu | This text section may be deleted for presentation</a:t>
            </a:r>
            <a:r>
              <a:rPr b="0" lang="en-US" sz="800" spc="-1" strike="noStrike">
                <a:solidFill>
                  <a:srgbClr val="523e2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747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129492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6:14:46Z</dcterms:created>
  <dc:creator> Presentationfx.com</dc:creator>
  <dc:description>Copyright 2008. Maynot be redistributed except by presentationfx.com. Will be enforced to the maximum extent under law.</dc:description>
  <cp:keywords>Lilly Pond Flower Nature Lake Water</cp:keywords>
  <dc:language>en-US</dc:language>
  <cp:lastModifiedBy> </cp:lastModifiedBy>
  <dcterms:modified xsi:type="dcterms:W3CDTF">2008-04-25T18:52:19Z</dcterms:modified>
  <cp:revision>31</cp:revision>
  <dc:subject>Environment, Biology</dc:subject>
  <dc:title>Lilly</dc:title>
</cp:coreProperties>
</file>