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89C-C721-41B7-8D94-7A890BA7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EE5-3414-448F-8626-7C52F91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FA2-727B-4308-A540-6156498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76C-D72A-474A-A7FA-A36CB99C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23B-DF71-4B08-9FD7-C176FF0D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43C-D06F-47DC-B1DA-01967F34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B10-8A0E-4A7E-85C8-243E91EB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4E6-8C74-4F96-8E3C-8AE18E29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E5B-2A39-4FFB-8CF7-D6BAE45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D85-5612-4A7E-882F-41B9BF5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D99-3CBD-459D-BE59-DC56CD7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43F-C027-4AF1-BF14-F75E8D2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1C30-7191-4078-9537-D54298C5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esentationfx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152280"/>
            <a:ext cx="487692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240" y="990720"/>
            <a:ext cx="29718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5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| Redistribution Prohibited | Image © 2008 Clix@sxc.hu | This text section may be deleted for presentation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g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5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8 </a:t>
            </a:r>
            <a:r>
              <a:rPr b="0" lang="en-US" sz="1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PresentationFx.co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| Redistribution Prohibited | Image © 2008 Clix@sxc.hu | This text section may be deleted for presentation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6:14:46Z</dcterms:created>
  <dc:creator> Presentationfx.com</dc:creator>
  <dc:description>Copyright 2008. Maynot be redistributed except by presentationfx.com. Will be enforced to the maximum extent under law.</dc:description>
  <cp:keywords>Leaf Flower Biology</cp:keywords>
  <dc:language>en-US</dc:language>
  <cp:lastModifiedBy> </cp:lastModifiedBy>
  <dcterms:modified xsi:type="dcterms:W3CDTF">2008-04-25T16:15:49Z</dcterms:modified>
  <cp:revision>22</cp:revision>
  <dc:subject>Biology, Environment</dc:subject>
  <dc:title>Leaf Close Up</dc:title>
</cp:coreProperties>
</file>