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EF5-812E-4141-9E8B-8647AF3F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347-B351-4279-8D93-04CB82E7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B3C-5282-4120-BD58-0606A9A3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F0D-903B-42CB-BF51-04CA4416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DBB-9038-483E-8F83-C237D7CD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9AF-119B-4DF2-99B8-06B15B31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AE6-48B8-4B67-B0F0-B45E6461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CAE-BDB9-41D0-BB21-C05AAFE4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300-E2F7-45D4-9B1C-5DF21350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5D9-D254-4CA9-ADD8-AA7B9C65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C88-76BE-4B3E-B9C5-FA88AD9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C45-B944-4365-A416-22E940AD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D84B-7E0F-45DE-AB76-D08A83EAC2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esentationfx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esentationfx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952880"/>
            <a:ext cx="48765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86b5d"/>
                </a:solidFill>
                <a:latin typeface="Arial"/>
              </a:rPr>
              <a:t>Presentation </a:t>
            </a:r>
            <a:br>
              <a:rPr sz="3600"/>
            </a:br>
            <a:r>
              <a:rPr b="0" lang="en-US" sz="3600" spc="-1" strike="noStrike">
                <a:solidFill>
                  <a:srgbClr val="686b5d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6095520"/>
            <a:ext cx="289548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b5d"/>
                </a:solidFill>
                <a:latin typeface="Arial"/>
              </a:rPr>
              <a:t>Your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b5d"/>
                </a:solidFill>
                <a:latin typeface="Arial"/>
              </a:rPr>
              <a:t>Page Titl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b5d"/>
                </a:solidFill>
                <a:latin typeface="Arial"/>
              </a:rPr>
              <a:t>Not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b5d"/>
                </a:solidFill>
                <a:latin typeface="Arial"/>
              </a:rPr>
              <a:t>Not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b5d"/>
                </a:solidFill>
                <a:latin typeface="Arial"/>
              </a:rPr>
              <a:t>Note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2860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6b5d"/>
                </a:solidFill>
                <a:latin typeface="Arial"/>
              </a:rPr>
              <a:t>Copyright 2008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PresentationFx.com</a:t>
            </a:r>
            <a:r>
              <a:rPr b="0" lang="en-US" sz="1000" spc="-1" strike="noStrike">
                <a:solidFill>
                  <a:srgbClr val="686b5d"/>
                </a:solidFill>
                <a:latin typeface="Arial"/>
              </a:rPr>
              <a:t> | Redistribution Prohibited | Image © 2008 Clix@sxc.hu | This text section may be deleted for presentation</a:t>
            </a:r>
            <a:r>
              <a:rPr b="0" lang="en-US" sz="800" spc="-1" strike="noStrike">
                <a:solidFill>
                  <a:srgbClr val="686b5d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b5d"/>
                </a:solidFill>
                <a:latin typeface="Arial"/>
              </a:rPr>
              <a:t>Page Titl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b5d"/>
                </a:solidFill>
                <a:latin typeface="Arial"/>
              </a:rPr>
              <a:t>Not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b5d"/>
                </a:solidFill>
                <a:latin typeface="Arial"/>
              </a:rPr>
              <a:t>Not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b5d"/>
                </a:solidFill>
                <a:latin typeface="Arial"/>
              </a:rPr>
              <a:t>Note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22860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6b5d"/>
                </a:solidFill>
                <a:latin typeface="Arial"/>
              </a:rPr>
              <a:t>Copyright 2008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PresentationFx.com</a:t>
            </a:r>
            <a:r>
              <a:rPr b="0" lang="en-US" sz="1000" spc="-1" strike="noStrike">
                <a:solidFill>
                  <a:srgbClr val="686b5d"/>
                </a:solidFill>
                <a:latin typeface="Arial"/>
              </a:rPr>
              <a:t> | Redistribution Prohibited | Image © 2008 Clix@sxc.hu | This text section may be deleted for presentation</a:t>
            </a:r>
            <a:r>
              <a:rPr b="0" lang="en-US" sz="800" spc="-1" strike="noStrike">
                <a:solidFill>
                  <a:srgbClr val="686b5d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6:14:46Z</dcterms:created>
  <dc:creator> Presentationfx.com</dc:creator>
  <dc:description>Copyright 2008. Maynot be redistributed except by presentationfx.com. Will be enforced to the maximum extent under law.</dc:description>
  <cp:keywords>Leaf Flower Biology</cp:keywords>
  <dc:language>en-US</dc:language>
  <cp:lastModifiedBy> </cp:lastModifiedBy>
  <dcterms:modified xsi:type="dcterms:W3CDTF">2008-04-25T16:47:14Z</dcterms:modified>
  <cp:revision>23</cp:revision>
  <dc:subject>Biology, Environment</dc:subject>
  <dc:title>Plant Eye</dc:title>
</cp:coreProperties>
</file>