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3440-1BFD-4F14-B64F-AE68BB27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073-9EFA-4780-B633-C3E60F1E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B8DD-4888-4A14-B592-623ACFFA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48A-6649-43A9-8F37-20E762F4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9303-5057-41E1-9211-13AABFDB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2417-494D-4ED1-B330-7DD6E702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AE3-C24B-4223-9B04-7B8CB91D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1E7-8E83-4D5F-BF71-F7A72AB8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709C-9A55-44FE-9FD8-59C5E9E8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43B9-DA21-4C9A-A5A1-F6D1C5D8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EB7-C22D-465D-A479-69617782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77E-BC71-4EE2-9B23-B3E0B6E7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51CE-46C9-4020-8A5D-016DE85DA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907920"/>
            <a:ext cx="52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27T22:00:42Z</dcterms:modified>
  <cp:revision>61</cp:revision>
  <dc:subject/>
  <dc:title>Texto</dc:title>
</cp:coreProperties>
</file>