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11A-CC84-4CC4-914C-C722E0BD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0B1-522B-4E01-8B2C-5DF19E4C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821-FFEC-49E7-B3F2-C1B6F7FC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F3B-5A8D-49D3-90B5-0589978C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399-FD34-432B-9E23-F4D653E2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76B-32C9-462F-9F44-CA1D1210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D27-0A8A-4F17-ACB4-E104ED45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950-BCFA-4D71-89BA-F0E0F4F3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C9C-1873-4596-A21C-F1F02E07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3B0-B8A3-4AE9-BB1D-DCEAAF41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373-798A-4EDB-99E9-9139A77D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1B4-043C-4296-90AE-0E7DC47A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389F-71E6-4ECC-9C84-0E387CB14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013360"/>
            <a:ext cx="44654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58972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1T18:28:02Z</dcterms:modified>
  <cp:revision>596</cp:revision>
  <dc:subject/>
  <dc:title>Diapositiva 1</dc:title>
</cp:coreProperties>
</file>