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D29-8DC7-4BD9-9E92-89D5E245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85A-3A91-4F90-9CD9-A72F4BBE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A4E7-AF9C-4C39-B7F1-5CA3A02B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0AD-05BD-4E46-AA69-252B0721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948-1104-4DC2-B701-4509A287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C13-615E-4C70-8B22-6190D39C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252-D8E1-4C3C-A57F-17E52AD8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3A8-37BB-4B3A-8327-2E37FADD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5FE-0CEB-4E06-859B-E1E644A7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E9CA-B2BA-4AC6-BD19-2712CB18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AF99-D4A5-4F3D-8327-7792F8FA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110-343F-4200-9AB6-48C9542D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7431-9FD2-446F-8342-4F18E520E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16360" y="1125360"/>
            <a:ext cx="5184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17T18:41:53Z</dcterms:modified>
  <cp:revision>734</cp:revision>
  <dc:subject/>
  <dc:title>Diapositiva 1</dc:title>
</cp:coreProperties>
</file>