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6E4-1724-4D14-9C2E-EE133483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3F8-CFC9-4CD6-B99A-E48C720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3B1-A1E7-406E-8A99-F6DC2CE2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1F1-E1CF-48A2-9E12-61ED7F63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D77-E708-4E8E-A8DF-A948E66F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C94-BA7F-4F62-A330-C620DA8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61B-476A-407C-B164-4689036A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87E-DFCF-41EB-869E-40843849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407-BB20-4EE8-ACAB-D82B5287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FE6-2614-4926-835B-E577716F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17C-D4EF-4654-B01E-5DA4059F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B09-D74C-4839-901D-93265F4F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14DC-E903-4759-9C2A-20F9247A1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9T16:01:13Z</dcterms:modified>
  <cp:revision>182</cp:revision>
  <dc:subject/>
  <dc:title>Diapositiva 1</dc:title>
</cp:coreProperties>
</file>