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9F1-02F3-4CD0-9C49-EB99019D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4F5-B3FC-415E-B387-4F97C103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D7A-9804-4D62-92E6-529CEAD2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6E2-734F-4317-B842-D6BC2193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911-0BB0-4BF0-A48E-D8C91714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979-054D-4E40-92D1-20D2B7D3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1AE-8A4E-45FC-AFB8-55070C7D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1EC-ACD5-42E8-8FC5-1A483FD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C53E-574E-4EFD-ACA7-45254D6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0D1-FBF4-47D6-A0CF-43CE2743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8BC-96DC-43DF-91F5-89BC07C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C73-055A-41BD-82CA-2057AA65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5816-6C52-4108-B156-8F7323E0A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09T16:01:13Z</dcterms:modified>
  <cp:revision>182</cp:revision>
  <dc:subject/>
  <dc:title>Diapositiva 1</dc:title>
</cp:coreProperties>
</file>