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C544-63BA-4235-B221-EB5D34B6A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E8C2-9C0F-432E-ABDA-AADB24DB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0226-05A8-4BF3-ACEC-C54870512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42E4-04FC-4C2B-BD83-629551F51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0E6F-81C3-4035-8DE6-E455D684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F59F-DFB6-4FFF-BBDD-CB4E44BA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AC48-73E3-4531-934E-C6A43D43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3B40-8093-4DB0-A18C-BDE85C48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32A8-1A1F-492F-BFE4-1BEE420D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8487-0495-4AFB-9BC4-8EF5A2E0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9D38-1443-4F91-8C4B-715B0C7B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6E6D-2165-430C-8D94-1E65A72A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35E4-1EF1-4163-8B11-A7BFFFB42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4292640"/>
            <a:ext cx="486072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013360"/>
            <a:ext cx="518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4-09T23:01:25Z</dcterms:modified>
  <cp:revision>657</cp:revision>
  <dc:subject/>
  <dc:title>Diapositiva 1</dc:title>
</cp:coreProperties>
</file>