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9907C-BE85-4AE9-9813-E1E86E5A50A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082B4-C21D-462C-8BF0-FA7C970FE74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DE1DD-85D3-48D9-A39F-F3DE5259F61B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74C4-E407-4221-9B9A-32056EC5F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75A9-5F9C-4454-ABF2-5E48C03AA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FE62-F5DC-4D45-9CCB-4C03F0608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28DD-F774-4508-959D-CB07C2542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60A9-B157-48F2-860B-13A0F06EA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8104-530F-4F35-B61B-01688CB80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1093-08AF-4F10-A7E7-63629C24A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C096-844B-4711-BA0F-32EABA804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593B-F0FC-4587-A0F4-405B1E832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BD7E-A18A-412C-8E6A-483360F1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5B94-CACC-4C31-9CFE-C95B76F9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3B38-93BD-4908-BA15-8C550854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35984-3861-471A-9049-CC2920388F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Mariajose</cp:lastModifiedBy>
  <dcterms:modified xsi:type="dcterms:W3CDTF">2009-07-24T18:20:34Z</dcterms:modified>
  <cp:revision>41</cp:revision>
  <dc:subject/>
  <dc:title>TITLE</dc:title>
</cp:coreProperties>
</file>