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B02-FE28-4FC5-8E63-54D0C166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8AA-3D78-4D50-9415-3E84037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FEB-4D20-4CB4-BFD2-6CC2554C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206-DAF5-42AA-855D-D58E432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324-E567-4FAB-85A3-29FF1D3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00E-8E43-4EB3-A5E9-8A089276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368-0C91-48C5-84EB-BF6FDE4F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622-BE86-46E0-939F-39D9F54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B20-E09D-49DD-88A9-887B104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69E-94DD-4C70-9A1A-E23913C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E17-1A6E-4718-B409-6DAC2943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1E0-76FE-4177-B499-93C31CD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E32-61ED-42D3-BED9-EE8E2253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5444640"/>
            <a:ext cx="5184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595008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04T14:45:56Z</dcterms:modified>
  <cp:revision>632</cp:revision>
  <dc:subject/>
  <dc:title>Diapositiva 1</dc:title>
</cp:coreProperties>
</file>