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782-EC92-48F7-969E-A07AE21C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FA7-AD18-4ED3-B115-B28BAEF0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DDB-1C36-47BE-B8C0-73F3B2B5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DC2-B57B-492B-A621-575D5FB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395-B469-4CE2-AF2D-2833E4CF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6E4-627C-47AF-8E25-84D8DAFF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1A3-27E3-4D23-969F-A90D4CB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E3E-F889-477D-B2B6-41B36F49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754-46F7-4229-BAA9-76EFE5D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3F8-350C-42DB-84C2-576A9E4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304-BA84-4ADF-941B-38FDFB6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DC4-BBAE-46CC-AC44-E7B8903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F35-C2B5-424E-AD59-2177D7A4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08T18:15:15Z</dcterms:modified>
  <cp:revision>280</cp:revision>
  <dc:subject/>
  <dc:title>Diapositiva 1</dc:title>
</cp:coreProperties>
</file>