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A0E-4ECF-4D85-B303-BEFC1899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C0A-C8DE-4343-870E-D3C714ED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B03-643F-4F47-9FB1-0449254A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B76-121D-4ED3-884E-61DE4244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C05-EC5A-4912-B379-4FBA26C0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779-5EE3-4507-8DA0-F48094F1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07F-84CF-4DFA-8196-45B4C784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EB7-200B-46D5-BA2D-2FD4A716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88D-1118-459C-9BB6-87BE5304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DB1-76D4-4DC6-B25F-B5BFC280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537-7CAD-4FBA-9EDE-D8790DA1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417-D025-47F2-8121-BAA3370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DD40-6014-4806-985C-570CFCD11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24T17:58:42Z</dcterms:modified>
  <cp:revision>420</cp:revision>
  <dc:subject/>
  <dc:title>Diapositiva 1</dc:title>
</cp:coreProperties>
</file>