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D12A-998A-4D7E-A7F8-3CA30F14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8CF-AF48-4FA3-8FFD-6A5518D1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94A-34E6-4E1C-9A2B-BB92DF55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57D-2013-47F9-8631-500A9D0F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CF25-FD85-4D1E-A94B-F05C9CCA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30A5-E4A7-4AF9-91FE-C30E4746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841-A0BD-41FE-A7F0-C5958A8B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E12-F304-4131-90BC-C1B65F2D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3F24-07B1-4A72-B17B-A22D5468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AFF-7433-4228-BF89-8941A4FE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4F3-5397-4BF6-9AD2-6ADB36F8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83CF-F740-4225-A9B6-AC30DEBA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31A3-EFC6-4B87-BB53-15BB420B4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79640" y="1052280"/>
            <a:ext cx="511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3300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8-28T16:22:04Z</dcterms:modified>
  <cp:revision>716</cp:revision>
  <dc:subject/>
  <dc:title>Diapositiva 1</dc:title>
</cp:coreProperties>
</file>