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BFF-B697-42D2-95FA-6BBE7D2E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B93-49BC-4491-8160-5E57B30F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BB49-3F98-4618-B8B1-415D152D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D92-E2C7-40CB-85B2-6D81FB8E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827-9A32-4DED-B708-DFE5CB51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CDB-075A-4A9F-BF1E-342B6066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4655-0466-43AA-BF42-71E4B76C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42E5-5B83-4B62-B530-EF0E6F09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28FE-B3AF-4A0F-80FF-D3FCF765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5F61-4FCC-4CCE-A7DF-31ABBDED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4A1-317D-4990-8907-BA4AF4B1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EA3D-3E1A-45CD-A82C-84FAB852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D7B8-75CB-4F8A-AD48-9927FF028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79640" y="1052280"/>
            <a:ext cx="511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3300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8-28T16:22:04Z</dcterms:modified>
  <cp:revision>716</cp:revision>
  <dc:subject/>
  <dc:title>Diapositiva 1</dc:title>
</cp:coreProperties>
</file>