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446F7-CC11-425A-B6D7-9B8740BA9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3AEE0-C1BC-4C80-8029-AD0A0F1DA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F5DC6-4659-4C20-99BF-8CB41442D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54E67-A57C-403B-90C5-F5D738F59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34109-FCFE-46E0-8146-646B85C55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C67F1-3FC1-44D7-B8B5-E9DE7071C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B29D5-8C3B-4731-9725-9F8DCE9F2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D8137-C418-489A-9A0C-7299AC9A5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9A4C7-9DAB-43B4-B9CF-164521DB7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39079-14C8-407B-996B-943AA776D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40275-E120-473E-ACCF-16DCC8839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8F461-5591-4BBE-A153-E5E93A958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BB849-F905-46E3-89E4-4AEAEC9AB3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4724280"/>
            <a:ext cx="6408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Presentation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5373720"/>
            <a:ext cx="5365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contact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1-09-29T18:32:42Z</dcterms:modified>
  <cp:revision>786</cp:revision>
  <dc:subject/>
  <dc:title>Diapositiva 1</dc:title>
</cp:coreProperties>
</file>