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C384-3E7C-4141-859E-9E62D00D093B}" type="slidenum">
              <a:rPr b="0" lang="es-U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0B3-4832-4A73-8968-8D12C046BC9E}" type="slidenum">
              <a:rPr b="0" lang="es-U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906-F638-4C17-8650-326DD36DF9B4}" type="slidenum">
              <a:rPr b="0" lang="es-U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F35-48BE-4ED0-998C-45412333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D28-4D25-452D-BDD2-71196AC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0A4-0A88-4409-8F64-1844E744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1C6-2389-4677-8762-C4A33731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D19-C4ED-4C31-B64B-31B4F2F0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BC1-7A34-4F05-966F-4206766D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71D-7249-4657-988A-D606570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5A7-E1F7-4934-BDFB-EA2A180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169-E4CA-414A-84C4-6354B1C2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504-4CA1-49E9-800D-CB71F53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2B9-8D46-47B3-82BE-BF7330E6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BB4-C061-4070-A1EB-429D713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6E4-B26E-4EAD-B7B9-3B9B0E2A4284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0:52:30Z</dcterms:created>
  <dc:creator>Cecilia</dc:creator>
  <dc:description/>
  <dc:language>en-US</dc:language>
  <cp:lastModifiedBy>Cecilia</cp:lastModifiedBy>
  <dcterms:modified xsi:type="dcterms:W3CDTF">2009-04-11T00:55:12Z</dcterms:modified>
  <cp:revision>1</cp:revision>
  <dc:subject/>
  <dc:title>Title</dc:title>
</cp:coreProperties>
</file>