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CE61-9004-4D7B-B8A0-DEFAA9C9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2E82-D57B-45AC-B7B7-3828587D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A3B-402C-428E-8836-C40E5344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E58-1AE5-48B9-B6E3-DE7A38C6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6F9-F75D-4F00-89C4-957CFF40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888-0385-4723-BD5F-EDE5562F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A53C-A0F0-483A-85C9-BD6BC3DA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0F8-9261-4C60-90A8-A96513C6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B2C0-9DE2-44E9-84F3-F639F91F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6A88-B905-49AB-8E0E-E25F0AC4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8FE9-7EA3-46D2-BE97-ED0568DB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50A-1B34-4BA6-8D04-16CAEAA6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686A-9556-4CC1-91C6-A6413BBFD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Mariajose</dc:creator>
  <dc:description/>
  <dc:language>en-US</dc:language>
  <cp:lastModifiedBy>Mariajose</cp:lastModifiedBy>
  <dcterms:modified xsi:type="dcterms:W3CDTF">2010-08-07T03:55:38Z</dcterms:modified>
  <cp:revision>4</cp:revision>
  <dc:subject/>
  <dc:title>Title</dc:title>
</cp:coreProperties>
</file>