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1C5-2162-4956-8A3E-8CF1C27C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109-6271-4F64-9795-D822FD00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5F8-9813-4FC3-9DA8-E3E54816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59E-FBE2-4E58-8724-F44C5970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B62-A831-413A-9047-72AA45A8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183-1123-4376-BA05-B5C8A686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CBB-3738-4121-B2B8-86CFD5CA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D1C-9FEF-47A5-81D5-E81BCE48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7D8-52C1-441E-A7CD-0199F90F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66C-B19E-498B-9567-68E9E094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D60-A0BA-4B30-8BB1-724EE124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425-1651-4091-86C1-05B6764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AC0A-F785-4848-8114-087647780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7336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5T13:26:53Z</dcterms:modified>
  <cp:revision>709</cp:revision>
  <dc:subject/>
  <dc:title>Diapositiva 1</dc:title>
</cp:coreProperties>
</file>