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633-B450-4E64-84E5-A1DC6D09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F8E0-0AD8-498E-A068-A22105E0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269-10D2-48AB-9101-6BA4EEBE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2E2-F59F-424D-8F2C-EB4E0C31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D2F-5BEC-4028-BBFA-EFA21701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C5E8-5B94-4064-8AAD-707C492A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C7B-AE52-44CC-8B27-0EB368A0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6C7-986C-4508-8DEA-08479DF6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3C3-B910-45D3-91BF-CDEDF4B7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5E3-6BE9-4C9F-A2D7-B8F24ED1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71D9-09B4-4A4B-8C1D-50173D57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B69-6CA2-41AB-AD06-1DDCCB68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2706-345A-442B-A799-FA4E6DB05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9-10T23:59:52Z</dcterms:modified>
  <cp:revision>188</cp:revision>
  <dc:subject/>
  <dc:title>Diapositiva 1</dc:title>
</cp:coreProperties>
</file>