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AF70-7B9F-413B-99D7-431BD1B7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8661-F88E-4CCD-A587-13754262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20C2-DAFA-4414-8188-7A77D798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04EB-0348-47D4-B80E-D91022A4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86D1-6147-4AE2-898B-BF10B1CF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5C7F-7D67-4D7E-B308-17746589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1416-D5A0-4A6C-B983-6E2E2F15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65FF-8139-4D17-9294-3259FD8E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F4F4-0D3C-44BB-8BD8-6A29DF29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5476-4CE9-4A5F-821F-8B968BC1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59A-CA1F-4C95-89F7-0F1A5219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16FD-787D-4F77-887B-B9D5AE56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DBE7-24FD-41EB-B341-253368DD6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4900680"/>
            <a:ext cx="5184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516640"/>
            <a:ext cx="33843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29T18:14:05Z</dcterms:modified>
  <cp:revision>619</cp:revision>
  <dc:subject/>
  <dc:title>Diapositiva 1</dc:title>
</cp:coreProperties>
</file>