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A20-346B-4C49-B88A-E32A246C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FA1-69CD-4C6B-962C-CED94EF0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0C8-16D1-4CA5-B21E-8F3EACD6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B60-813F-4B2A-AA58-157AC2F7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A8E-712C-4833-9FA4-7688A1AC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25C-AD65-4862-8833-6941B063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AA7-F3D9-4C4F-BC87-4B890FE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D1D-E985-4737-A49C-F14660E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36F-3193-4F4A-8623-4BE11237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718-6ABA-4BFD-B80F-96DFA51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716-1E33-457E-BAD2-4735C92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7A0-3982-4CF6-ABD4-DA037FAA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B46B-15DA-4321-A587-1BA35522F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90792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05T19:10:58Z</dcterms:modified>
  <cp:revision>682</cp:revision>
  <dc:subject/>
  <dc:title>Diapositiva 1</dc:title>
</cp:coreProperties>
</file>