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B15-04D4-4F00-BB3E-D26B48D4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5CC-8C88-485E-BDFE-81552C88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BF7-2D57-4BED-B6C5-0F3B6D53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8DF-FE79-4DDA-8189-EBF0776F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E39-7F15-4CD3-8B60-BA7D3DDA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5C3-0FAB-486F-BEBE-F6F59DE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827-EB17-4675-ACE5-336CF212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DDB-9683-4E55-AC24-8FEEC18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13D-2D71-4908-AB3D-96FAE31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D2C-1979-40AC-A122-860914B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8B3-028A-440D-842F-5BD80EA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CC7-90C5-40AB-8BFD-A635C56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16C-2393-4692-B732-90D974F00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907920"/>
            <a:ext cx="6840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5T19:10:58Z</dcterms:modified>
  <cp:revision>682</cp:revision>
  <dc:subject/>
  <dc:title>Diapositiva 1</dc:title>
</cp:coreProperties>
</file>