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C82-A412-4C8A-A324-76E056D4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6FB-952D-4D80-84E9-C03918E2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ECB-6780-4D49-A2E2-A8843B88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A4E-21C9-4DE7-9264-DF1A97EF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6C5-1137-4EDD-86B1-A47CFC21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0B7-796E-4E4C-853A-F21C4826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1E7-47EC-4A8E-B070-9303FA3C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8DD-1CEE-4E51-80CE-32570E36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7AA-0337-4666-A9FA-4F666E48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EF6-C8F6-463B-B37D-C434E5E6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448-3C80-41DB-A52E-C771E038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FF3-9046-4DE7-8C6F-F3CF8C2F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E991-D4B5-4598-925B-7F347EFE9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60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08-12-27T21:47:48Z</dcterms:modified>
  <cp:revision>1</cp:revision>
  <dc:subject/>
  <dc:title>Title</dc:title>
</cp:coreProperties>
</file>