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7740-ADF8-480E-AB35-4658DD1E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0243-86F7-4CD4-8703-51EBC868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620E-D7B2-4747-BFD2-CD38AD01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6CBE-C7ED-4766-84D4-AC2FEB86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259B-10FD-46F4-A47E-C3D2E009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5BCB-40D2-4598-B345-47EF9864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40F2-AA72-436C-B3D0-BFA0C93B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0C19-E2E4-4F51-BA46-D70B37CB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1DE2-1FC4-4D61-B423-81108155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5180-8192-4763-9A6D-52AE8A77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92ED-65CF-47A4-9C9B-14D110C5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3C0E-969C-4982-8F1F-059B111A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4E77-B0E6-4B01-831A-5D04C10C5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3141360"/>
            <a:ext cx="540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333333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10T10:41:24Z</dcterms:modified>
  <cp:revision>706</cp:revision>
  <dc:subject/>
  <dc:title>Diapositiva 1</dc:title>
</cp:coreProperties>
</file>