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B18-817C-43A5-ACD9-B8A54384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B34D-E41F-45EE-AABF-AB5B2E29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F17-5F8C-4DEA-ADA0-3364E59F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038F-D1D6-45F3-B540-F7EBDD9C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674-6025-41E0-98AC-FA749CD3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8D7-B6AD-4AB3-916F-7EFC4FC6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02F8-CA96-4C88-9981-EE97976A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DB7-8A9E-40B2-A18C-87A145C0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E55-299C-4614-BF9E-965A3F22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D1C-9956-4E20-A0DA-8A22D3B0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DAE-614E-490C-B3A3-10B330A1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F77-7173-49E0-97A6-1CDFF47F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0744-588C-4209-8CB8-E2F659EDB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3141360"/>
            <a:ext cx="540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333333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10T10:41:24Z</dcterms:modified>
  <cp:revision>706</cp:revision>
  <dc:subject/>
  <dc:title>Diapositiva 1</dc:title>
</cp:coreProperties>
</file>