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A8E-B1C0-4B78-8240-20E39275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859-F096-49D2-AFF0-D1224E00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95A-B7FD-4579-95E6-2F7202A2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030-881D-4090-A8ED-9BA7911B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BF7-3A20-43DB-B3DD-F22CDF00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739D-1046-4079-B818-C3C04018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C295-5F1F-4FE6-A6B3-BEA9ADEA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896-B3CD-4F14-96D3-049551D4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CF2-FA4C-4816-AB2C-952323CE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945-F053-4C52-9AAE-2A103BB0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DCE-3C8A-4E93-896D-C0302A18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3A8-CBAD-4781-82AF-5E37D18B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644A-8869-4373-9E8E-D49FDE96B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Mariajose</cp:lastModifiedBy>
  <dcterms:modified xsi:type="dcterms:W3CDTF">2010-03-09T12:22:20Z</dcterms:modified>
  <cp:revision>22</cp:revision>
  <dc:subject/>
  <dc:title>Diapositiva 1</dc:title>
</cp:coreProperties>
</file>