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3B96-BAC1-4519-9BA0-65AFCE71F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896E-0D83-4D88-9168-B9DE1F18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F07B-18FE-4798-A280-DC59E1F7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602E-C58D-4D94-998F-C4057AB2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B936-C2AE-4E41-AF49-65873091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EFD9-B1FF-45EC-9ACA-FA1E9F7A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9666-A220-43CE-9D1D-652863E5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6AFA-997B-4F91-8400-86FF213E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6AAA-6187-43A7-82DF-05CDA244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F878-3CB5-4E5B-995E-C981351E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D7B1-574F-4012-BC79-D87BCDFE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CD33-37CA-4A67-AFBC-A8669376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EF44-FFB0-416B-856B-F2CBB6D22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6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8:41:59Z</dcterms:created>
  <dc:creator>Mariajose</dc:creator>
  <dc:description/>
  <dc:language>en-US</dc:language>
  <cp:lastModifiedBy>Mariajose</cp:lastModifiedBy>
  <dcterms:modified xsi:type="dcterms:W3CDTF">2010-03-09T12:22:20Z</dcterms:modified>
  <cp:revision>22</cp:revision>
  <dc:subject/>
  <dc:title>Diapositiva 1</dc:title>
</cp:coreProperties>
</file>