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CB2-0485-4668-9393-1BC4FA0C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D43B-EAD7-47B3-BDDC-F0CBD629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B9E-023C-44EA-9BC6-98308D00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90D9-3EAA-40A3-A45C-C721584B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785-3A0C-41ED-B750-50C37070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5B4B-E717-40DC-81E5-980B24B4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C49B-C4A1-4DEC-996E-671E3BB2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4B6D-34A8-42F7-A051-B44CEE80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47BA-37D4-4EE7-91D3-0047F3C6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351-3B12-48DE-813C-815314DE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EC5-41B0-4D69-A6BB-73AFFF41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F4C-F1E5-4685-A34C-CD614C85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52F3-450B-4307-866C-560928CE4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5373720"/>
            <a:ext cx="536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29T14:25:12Z</dcterms:modified>
  <cp:revision>770</cp:revision>
  <dc:subject/>
  <dc:title>Diapositiva 1</dc:title>
</cp:coreProperties>
</file>