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F8F0-F242-4978-9545-73747854B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36C-D156-41FB-AAC7-7BF90F105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C4A3-892A-4FAC-9465-DE01E4CF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DC59-0DA4-4485-9781-8A6556AC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4AFC-627A-4AC7-A544-4702932D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1598-80E8-4021-BD03-0FC6CD96F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388C-4FAB-4E3D-A638-46AAEA7D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A624-866E-441B-B919-DF8514E0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0A45-1DDC-42DA-97F1-A9FDA5D78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0526-103C-4FD1-9898-DA02E3C5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6E6A-501D-431B-8927-5F33B6204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9EE7-12E1-4A2E-8CB6-7D35308A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8BF8-3DC1-462E-9ED7-FE287617F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5373720"/>
            <a:ext cx="53658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Presentation Tit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9267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1-09-29T14:25:12Z</dcterms:modified>
  <cp:revision>770</cp:revision>
  <dc:subject/>
  <dc:title>Diapositiva 1</dc:title>
</cp:coreProperties>
</file>