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B79-EE1E-454B-B275-6C342B8F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322-353B-4925-851B-58E2C911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F1F-15E7-4293-A279-22DE8C12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43A-3645-4804-87CA-01DD1165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3BD-E553-46E6-A16B-8E11F7C2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D97-D5AB-47EC-961C-8F9BF520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62E-FD0C-4E1E-A2C8-086A1235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0FB-D5BC-49FE-AC2F-DB3D0DAB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B40-D332-4DBA-9457-84464E59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5E4-4901-4D47-A7F8-4061BD62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99B-AF78-4DCD-90A8-495A744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963-B1BC-4133-861D-5162424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D8B3-8F16-4960-A274-6CC7E0E92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06T14:11:38Z</dcterms:modified>
  <cp:revision>366</cp:revision>
  <dc:subject/>
  <dc:title>Diapositiva 1</dc:title>
</cp:coreProperties>
</file>