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ADE-A371-4A38-8E63-848031E9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BC7-CA1A-4509-9053-E9D84548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5F3-F38D-4B5B-88CA-35F7A84B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D0C-5532-4978-9535-18486D95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5AF-EB2A-4F06-A71D-7019A8C1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092-0845-49DC-816A-B73E9452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B74-91A2-45C5-812B-32A0ED87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507-EC9C-4516-B45B-5320D034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B63-98C4-42BC-9BC3-11BED8BB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F4F-E5BC-44E5-A929-C0D2751F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001D-9931-4353-8D91-29441F01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234-906C-45A1-8329-4E0B6B76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7ADD-E9EB-43FE-920C-C97E82BD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5686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5400" spc="-1" strike="noStrike">
                <a:solidFill>
                  <a:srgbClr val="006699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2349360"/>
            <a:ext cx="532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6699"/>
                </a:solidFill>
                <a:latin typeface="Arial"/>
              </a:rPr>
              <a:t>Subheading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16T16:57:48Z</dcterms:modified>
  <cp:revision>617</cp:revision>
  <dc:subject/>
  <dc:title>Diapositiva 1</dc:title>
</cp:coreProperties>
</file>