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CA2BA-9087-4005-8BE2-60E1E8233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F475F-B5F9-41F9-86D8-52A3272DD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E41E5-22C0-4A96-B3D1-60BB9C0CA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070E5-B484-427B-9C68-247550676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0B3F6-1B66-428F-83D8-77612DB23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97ABE-C8D3-4863-9DEA-C5D497372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A38BA-7AA2-4BB9-8587-0EA020384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35391-0C03-4BF2-8175-AE0A59E98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DF7DA-40F0-4813-B015-E0408169C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D73CC-2575-4FD8-B44B-13740AFC0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3E00E-8060-4EB9-95BA-173E3EC66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36C24-50D3-461A-978B-D92DE9750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7FC03-A1A5-47D9-8B83-F0887CD0F5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1-01-25T23:34:54Z</dcterms:modified>
  <cp:revision>331</cp:revision>
  <dc:subject/>
  <dc:title>Diapositiva 1</dc:title>
</cp:coreProperties>
</file>