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12F-7E0F-469B-9802-4D1D1CA0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E04B-2C16-47FA-8D9C-C02BF40B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7FC-C684-40D0-8A38-AA36971D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94AA-F48B-47F4-9F7F-94D3CC4A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D7D-5F0D-4F68-8A98-D8E6E2FA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E29-18DF-4DB0-BECF-4B5C77F8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8FC-0CFA-4901-9A7B-1A9CE94B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4C2-04E1-4F3A-B82D-75A1C448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621-F5CF-4B6A-A9E8-9F16D975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BB0-CD66-48DE-A919-66638291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5DD-282C-4E54-AE60-0C572109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957-6DEA-4370-978C-5A19231E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191F-CBAC-4534-A9F8-1BA7D9B24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25T23:34:54Z</dcterms:modified>
  <cp:revision>331</cp:revision>
  <dc:subject/>
  <dc:title>Diapositiva 1</dc:title>
</cp:coreProperties>
</file>