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9A0-E47B-4AA2-8071-1B87BC3F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815-BAB7-4138-95FA-8E09257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FCA-C54D-420D-9ADE-D932A78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722-0972-4F0E-9D6D-522181CD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C33-F472-442F-A708-481776C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6A0-8545-4C62-927E-A633098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A59-875C-4E32-96C0-8864810B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50A-B222-4273-9808-4EFA375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420-018F-477E-A0D8-08EAB33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5A8-4F9D-438B-A90F-69F9490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DBB-2B9E-44C7-98A6-C2F77C3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0A5-219D-4DF0-963C-8A47BEF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AE7A-813E-4F04-A5DB-6179411C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52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16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07T18:39:12Z</dcterms:modified>
  <cp:revision>870</cp:revision>
  <dc:subject/>
  <dc:title>Diapositiva 1</dc:title>
</cp:coreProperties>
</file>